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2C09-034C-416E-A42A-494C0DADC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A340-D5D1-4A66-A0F9-8DC9D3777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A2FE-9F06-4EBD-804B-D17928195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0121-CCC6-4E66-84AC-FCDAA7ACE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CC69-6F7D-4E0C-BD04-074E20091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21EE-9D0E-4FC6-BB31-FC366A330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5E8D-EB7C-4B9E-AD65-FC49EC42C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3BE5-362B-4E38-991E-AB7DAD45C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1BC0-5A6E-41D5-AA12-9BDC6628B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C430-3BC9-41AD-99FB-53AC00F8B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811E-297D-48D7-BAB5-5FB8D46D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8932-B61F-4D2D-BEED-B3555ED55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4E806-CA18-4B6C-8DC8-14C1E639DC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foamorder.com/graphics/beds/venice_bed_4.jpg&amp;imgrefurl=http://www.foamorder.com/sleigh_beds.html&amp;h=350&amp;w=350&amp;sz=26&amp;hl=en&amp;start=2&amp;sig2=oDniK_4X01ET9b7OdtSpXw&amp;usg=__HdV3svHx83zPaPJWBk0DfgAIrf0=&amp;tbnid=9hzJEJtVd47S1M:&amp;tbnh=120&amp;tbnw=120&amp;ei=3c7PSLXMEI6WwQGyyZkW&amp;prev=/images%3Fq%3Dbed%26gbv%3D2%26hl%3Den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.uk/imgres?imgurl=http://www.ecodesignz.com/Merchant2/graphics/00000001/ED_02SideChair_F.jpg&amp;imgrefurl=http://fatknowledge.blogspot.com/2008_01_01_archive.html&amp;h=460&amp;w=350&amp;sz=11&amp;hl=en&amp;start=1&amp;sig2=nOz_Vm3pBGa9WyqELc-ZwQ&amp;usg=__d2MtqUV48yjHzzRICAqbyD2v9m8=&amp;tbnid=YyqgsJOTX_8O9M:&amp;tbnh=128&amp;tbnw=97&amp;ei=Bs_PSJ-cFpfwwwH2koAO&amp;prev=/images%3Fq%3Dchair%26gbv%3D2%26hl%3Den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google.co.uk/imgres?imgurl=http://www.smartdesks.com/images/2fi-computer-desk-480.jpg&amp;imgrefurl=http://www.smartdesks.com/2fi-dual-monitor-computer-desks.asp&amp;h=360&amp;w=480&amp;sz=14&amp;hl=en&amp;start=5&amp;sig2=V8zd3aeazo5f6FXzKId0fw&amp;usg=__FBh7M_bDD9GXrGzmhu1irlNG4Gw=&amp;tbnid=WS1cRBkVwiDfXM:&amp;tbnh=97&amp;tbnw=129&amp;ei=Ss_PSLXUOJf-wgHxwZgE&amp;prev=/images%3Fq%3Ddesk%26gbv%3D2%26hl%3Den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images.google.co.uk/imgres?imgurl=http://aavaas.com/wp-content/uploads/home-wardrobe.jpg&amp;imgrefurl=http://aavaas.com/2007/11/16/organizing-clothes-in-your-wardrobe/&amp;h=353&amp;w=390&amp;sz=30&amp;hl=en&amp;start=4&amp;sig2=ILxykgTIcyvQOP8TcRFpvg&amp;usg=__3-qVBAxrY6O9EhCj6TPTUZgnGIU=&amp;tbnid=Kv90TeDfnTUiWM:&amp;tbnh=111&amp;tbnw=123&amp;ei=oM_PSJb7J5KwwQHmtaga&amp;prev=/images%3Fq%3Dwardrobe%26gbv%3D2%26hl%3Den" TargetMode="External"/><Relationship Id="rId8" Type="http://schemas.openxmlformats.org/officeDocument/2006/relationships/image" Target="../media/image4.jpeg"/><Relationship Id="rId9" Type="http://schemas.openxmlformats.org/officeDocument/2006/relationships/hyperlink" Target="http://images.google.co.uk/imgres?imgurl=http://www.maxwells-auctioneers.co.uk/images/Galary/Regency%2520period%2520bow%2520front%2520chest%2520of%2520drawers%2520250.jpg&amp;imgrefurl=http://www.maxwells-auctioneers.co.uk/gallery.htm&amp;h=963&amp;w=1000&amp;sz=45&amp;hl=en&amp;start=1&amp;sig2=lYTz4Wi7PWwa1bgds1pFkg&amp;usg=__dBNLkCkwCr01Gf5ToknxOMJC1t4=&amp;tbnid=4K9pd4htucC5dM:&amp;tbnh=143&amp;tbnw=149&amp;ei=1s_PSOKtKZfwwwHzkoAO&amp;prev=/images%3Fq%3Dchest%2Bof%2Bdrawers%26gbv%3D2%26hl%3Den" TargetMode="External"/><Relationship Id="rId10" Type="http://schemas.openxmlformats.org/officeDocument/2006/relationships/image" Target="../media/image5.jpeg"/><Relationship Id="rId11" Type="http://schemas.openxmlformats.org/officeDocument/2006/relationships/hyperlink" Target="http://images.google.co.uk/imgres?imgurl=http://www.daveswoodgoods.com/images/floating-wall-shelf-24cr.jpg&amp;imgrefurl=http://www.daveswoodgoods.com/&amp;h=235&amp;w=330&amp;sz=14&amp;hl=en&amp;start=4&amp;sig2=JKGhor656ClW3V79fqHdxg&amp;usg=__o7Wbs4w22tWLl5S4mX4J3HNf8Dg=&amp;tbnid=d4VZEIQT9-tcbM:&amp;tbnh=85&amp;tbnw=119&amp;ei=HNDPSOiZJY2SxAGI4t0l&amp;prev=/images%3Fq%3Dshelf%2Bon%2Bwall%26gbv%3D2%26hl%3Den" TargetMode="External"/><Relationship Id="rId12" Type="http://schemas.openxmlformats.org/officeDocument/2006/relationships/image" Target="../media/image6.jpeg"/><Relationship Id="rId13" Type="http://schemas.openxmlformats.org/officeDocument/2006/relationships/hyperlink" Target="http://images.google.co.uk/imgres?imgurl=http://secure.mcc.org/mccstore/images/RUG.jpg&amp;imgrefurl=http://secure.mcc.org/mccstore/index.php%3Fmain_page%3Dproduct_info%26cPath%3D2%26products_id%3D423&amp;h=480&amp;w=600&amp;sz=381&amp;hl=en&amp;start=1&amp;sig2=UAXUSCPSpU0r7FM2MstiPQ&amp;usg=__GMV-gT9LCfpK0RY3CbNqqkU25jE=&amp;tbnid=bNcTV5dqpz9O1M:&amp;tbnh=108&amp;tbnw=135&amp;ei=N9DPSPONOoW4wQGtzPQd&amp;prev=/images%3Fq%3Drug%26gbv%3D2%26hl%3Den" TargetMode="External"/><Relationship Id="rId14" Type="http://schemas.openxmlformats.org/officeDocument/2006/relationships/image" Target="../media/image7.jpeg"/><Relationship Id="rId15" Type="http://schemas.openxmlformats.org/officeDocument/2006/relationships/hyperlink" Target="http://images.google.co.uk/imgres?imgurl=http://bearsonboard.org/teddy%2520bear.gif&amp;imgrefurl=http://bearsonboard.org/Picnic.html&amp;h=1000&amp;w=1000&amp;sz=125&amp;hl=en&amp;start=1&amp;sig2=fD0s-d6SxbD7SGQNmKYErA&amp;usg=__xh_LSKXS9inmc01duNBgkVMfPo4=&amp;tbnid=p54Ai_BE2f6PrM:&amp;tbnh=149&amp;tbnw=149&amp;ei=XtDPSJK4CIW4wQGwzPQd&amp;prev=/images%3Fq%3Dteddy%2Bbear%26gbv%3D2%26hl%3Den" TargetMode="External"/><Relationship Id="rId16" Type="http://schemas.openxmlformats.org/officeDocument/2006/relationships/image" Target="../media/image8.jpeg"/><Relationship Id="rId17" Type="http://schemas.openxmlformats.org/officeDocument/2006/relationships/hyperlink" Target="http://images.google.co.uk/imgres?imgurl=http://search.ugent.be/libtiger/img/books.jpg&amp;imgrefurl=http://lib.ugent.be/meercat&amp;h=300&amp;w=300&amp;sz=54&amp;hl=en&amp;start=3&amp;sig2=dVVm7J-PvCYTH_C6kq-tOg&amp;usg=__4QFOPZmz_duFKukq48Nby3hsujA=&amp;tbnid=QS2VJOFemIGs1M:&amp;tbnh=116&amp;tbnw=116&amp;ei=d9DPSPqHDoe2wwH8r5EW&amp;prev=/images%3Fq%3Dbooks%26gbv%3D2%26hl%3Den" TargetMode="External"/><Relationship Id="rId18" Type="http://schemas.openxmlformats.org/officeDocument/2006/relationships/image" Target="../media/image9.jpeg"/><Relationship Id="rId19" Type="http://schemas.openxmlformats.org/officeDocument/2006/relationships/hyperlink" Target="http://images.google.co.uk/imgres?imgurl=http://www.deadmentellnotales.com/onlinetexts/potc/images/1poster2.jpg&amp;imgrefurl=http://www.imdb.com/title/tt0325980/posters&amp;h=480&amp;w=323&amp;sz=40&amp;hl=en&amp;start=2&amp;sig2=RXu-8bYq_OHSuYXNSJ2_8w&amp;usg=__g3dvT-fApZERkVNeB0ixJ5WSCmc=&amp;tbnid=Pk2HbbR0msyWmM:&amp;tbnh=129&amp;tbnw=87&amp;ei=gNDPSIH4G57iwgHWoLwW&amp;prev=/images%3Fq%3Dposters%26gbv%3D2%26hl%3Den" TargetMode="External"/><Relationship Id="rId20" Type="http://schemas.openxmlformats.org/officeDocument/2006/relationships/image" Target="../media/image10.jpeg"/><Relationship Id="rId21" Type="http://schemas.openxmlformats.org/officeDocument/2006/relationships/hyperlink" Target="http://images.google.co.uk/imgres?imgurl=http://www.elitalice.com/wp-content/uploads/2007/04/tweety-bird-lamp-kids.JPG&amp;imgrefurl=http://www.elitalice.com/2007/04/09/tweety-bird-lamp/&amp;h=480&amp;w=400&amp;sz=15&amp;hl=en&amp;start=4&amp;sig2=I9y6vPi1SJrR4i8ac0nWlQ&amp;usg=__uxQ0cMrTX-kIV7ldDCLC0BH5tzQ=&amp;tbnid=de0RPZAsoRtU5M:&amp;tbnh=129&amp;tbnw=108&amp;ei=sdDPSPSXHpvIwQH8qKkK&amp;prev=/images%3Fq%3Dlamp%26gbv%3D2%26hl%3Den" TargetMode="External"/><Relationship Id="rId22" Type="http://schemas.openxmlformats.org/officeDocument/2006/relationships/image" Target="../media/image11.jpeg"/><Relationship Id="rId23" Type="http://schemas.openxmlformats.org/officeDocument/2006/relationships/hyperlink" Target="http://images.google.co.uk/imgres?imgurl=http://www.chinawholesalegift.com/pic/Horloge-Gifts/Mini-Clock/Metal-Bell-Alarm-Clock-15574192307.jpg&amp;imgrefurl=http://www.chinawholesalegift.com/Horologe-Gifts/Mini-Clock/Alarm-Clock-153127214.htm&amp;h=822&amp;w=630&amp;sz=58&amp;hl=en&amp;start=5&amp;sig2=CMXgAbtvwrdURcmZNzu5aQ&amp;usg=__G3cYpTPHDCZ7vkfOxApVyDSAQyk=&amp;tbnid=4hDpz9fKbVSwQM:&amp;tbnh=144&amp;tbnw=110&amp;ei=69DPSJWrIpqOwQGV1Z0Q&amp;prev=/images%3Fq%3Dalarm%2Bclock%26gbv%3D2%26hl%3Den" TargetMode="External"/><Relationship Id="rId24" Type="http://schemas.openxmlformats.org/officeDocument/2006/relationships/image" Target="../media/image12.jpeg"/><Relationship Id="rId25" Type="http://schemas.openxmlformats.org/officeDocument/2006/relationships/hyperlink" Target="http://images.google.co.uk/imgres?imgurl=http://www.tech2.com/media/images/uploads/2006/06/onkyo-cr-d1-mini-hifi.jpg&amp;imgrefurl=http://www.tech2.com/india/news/home-hifi-audio-systems/onkyo-cdd1-mini-hifi-with-ipod-and-wireless-pc-connectivity/686/0&amp;h=312&amp;w=589&amp;sz=26&amp;hl=en&amp;start=3&amp;sig2=QR1-p4bTjs6390MiUsXqPA&amp;usg=__Xw4jlro5Y1orJjeBBgHTPTxtogo=&amp;tbnid=zCkC9rVvGVJj4M:&amp;tbnh=72&amp;tbnw=135&amp;ei=CtHPSMzZLJvIwQGAqakK&amp;prev=/images%3Fq%3DHiFi%26gbv%3D2%26hl%3Den" TargetMode="External"/><Relationship Id="rId26" Type="http://schemas.openxmlformats.org/officeDocument/2006/relationships/image" Target="../media/image13.jpeg"/><Relationship Id="rId27" Type="http://schemas.openxmlformats.org/officeDocument/2006/relationships/hyperlink" Target="http://images.google.co.uk/imgres?imgurl=http://www.newbreedlibrarian.org/b2b/pics/TV_LCD_32__Hd_Ready_Provision.jpg&amp;imgrefurl=http://www.newbreedlibrarian.org/b2b/ultrasonic_cleaners/1/&amp;h=639&amp;w=959&amp;sz=92&amp;hl=en&amp;start=7&amp;sig2=7ZExLBTo8oAN6_JTcWiBpg&amp;usg=__8Blcfp6iziEgDjhVyphiuqUDSa4=&amp;tbnid=4J3osiIi_dDW3M:&amp;tbnh=99&amp;tbnw=148&amp;ei=K9HPSJ3jHZf-wgHuwZgE&amp;prev=/images%3Fq%3DTV%26gbv%3D2%26hl%3Den" TargetMode="External"/><Relationship Id="rId28" Type="http://schemas.openxmlformats.org/officeDocument/2006/relationships/image" Target="../media/image14.jpeg"/><Relationship Id="rId29" Type="http://schemas.openxmlformats.org/officeDocument/2006/relationships/image" Target="../media/image15.jpeg"/><Relationship Id="rId3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655640" cy="13683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979640" y="0"/>
            <a:ext cx="1297080" cy="1440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564000" y="0"/>
            <a:ext cx="1727280" cy="1514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435640" y="0"/>
            <a:ext cx="1657440" cy="1495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236000" y="0"/>
            <a:ext cx="1584000" cy="1521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0" y="2349360"/>
            <a:ext cx="1584360" cy="1420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1908000" y="2349360"/>
            <a:ext cx="1584360" cy="1266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3851280" y="2421000"/>
            <a:ext cx="1573200" cy="1419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5508720" y="2349360"/>
            <a:ext cx="1439640" cy="1440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7308720" y="2276640"/>
            <a:ext cx="1368720" cy="1512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0" y="4591080"/>
            <a:ext cx="1692360" cy="1361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1979640" y="4581360"/>
            <a:ext cx="1297080" cy="1371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3492360" y="4724280"/>
            <a:ext cx="1943280" cy="10368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rId27"/>
          </p:cNvPr>
          <p:cNvPicPr/>
          <p:nvPr/>
        </p:nvPicPr>
        <p:blipFill>
          <a:blip r:embed="rId28"/>
          <a:stretch/>
        </p:blipFill>
        <p:spPr>
          <a:xfrm>
            <a:off x="5580000" y="4581360"/>
            <a:ext cx="1728720" cy="11559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9"/>
          <a:stretch/>
        </p:blipFill>
        <p:spPr>
          <a:xfrm>
            <a:off x="7380360" y="4653000"/>
            <a:ext cx="1414440" cy="15127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1484280"/>
            <a:ext cx="1763640" cy="459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Una c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92360" y="1557360"/>
            <a:ext cx="1764000" cy="82548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Un escrito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1557360"/>
            <a:ext cx="1764000" cy="459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Un arm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708360" y="3789360"/>
            <a:ext cx="1763640" cy="82548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Un osito de pelu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35640" y="3789360"/>
            <a:ext cx="1763640" cy="459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Unos lib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164360" y="3789360"/>
            <a:ext cx="1763640" cy="82548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Unos po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63640" y="5877000"/>
            <a:ext cx="1763640" cy="76428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Arial"/>
              </a:rPr>
              <a:t>Un despertad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80360" y="5997600"/>
            <a:ext cx="1763640" cy="82548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Un orden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63640" y="1484280"/>
            <a:ext cx="1656000" cy="459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Una si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6000" y="1557360"/>
            <a:ext cx="1908000" cy="459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una cómo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9280" y="3860640"/>
            <a:ext cx="1656000" cy="825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Una estanter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35280" y="3789360"/>
            <a:ext cx="1655640" cy="825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Una alfomb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5950080"/>
            <a:ext cx="1655640" cy="825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Una lámp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64000" y="5877000"/>
            <a:ext cx="1871640" cy="825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Una cadena de mús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08720" y="5877000"/>
            <a:ext cx="1655640" cy="825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Una telev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700360" y="0"/>
            <a:ext cx="3095640" cy="65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Tengo que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asar la aspirado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hacer mi cama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no hacer nad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fregar los platos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ocinar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ortar el césped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impiar el coch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acar la basura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lanchar la rop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avar la ropa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asear al perro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oner la mes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640080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1557360"/>
            <a:ext cx="8497800" cy="27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1) to revise furniture by playing stand up sit dow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2) to learn about the 2 Spanish verbs for “to be”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3) To practise using ser and estar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ffff"/>
                </a:solidFill>
                <a:latin typeface="Arial"/>
              </a:rPr>
              <a:t>Ser and Estar = to b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79280" y="1600200"/>
          <a:ext cx="8785440" cy="4525920"/>
        </p:xfrm>
        <a:graphic>
          <a:graphicData uri="http://schemas.openxmlformats.org/drawingml/2006/table">
            <a:tbl>
              <a:tblPr/>
              <a:tblGrid>
                <a:gridCol w="3097440"/>
                <a:gridCol w="2879640"/>
                <a:gridCol w="280836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ST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sto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stá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Él / Ella / Ud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st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m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stam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stá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los / Ellas / Ud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stá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5257800"/>
            <a:ext cx="7238880" cy="1143000"/>
          </a:xfrm>
          <a:prstGeom prst="wedgeEllipseCallout">
            <a:avLst>
              <a:gd name="adj1" fmla="val 51226"/>
              <a:gd name="adj2" fmla="val -35138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Doctor Sel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7516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(S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66"/>
                </a:solidFill>
                <a:latin typeface="Arial"/>
              </a:rPr>
              <a:t>D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scription (Mi casa es grand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66"/>
                </a:solidFill>
                <a:latin typeface="Arial"/>
              </a:rPr>
              <a:t>O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ccupation (Mi padre es médic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66"/>
                </a:solidFill>
                <a:latin typeface="Arial"/>
              </a:rPr>
              <a:t>C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haracteristics (Soy simpátic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66"/>
                </a:solidFill>
                <a:latin typeface="Arial"/>
              </a:rPr>
              <a:t>T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ime / Date (Son las cinc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66"/>
                </a:solidFill>
                <a:latin typeface="Arial"/>
              </a:rPr>
              <a:t>O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rigin (Es de Inglaterr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66"/>
                </a:solidFill>
                <a:latin typeface="Arial"/>
              </a:rPr>
              <a:t>R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lationships (Es mi pad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0552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(EST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66"/>
                </a:solidFill>
                <a:latin typeface="Arial"/>
              </a:rPr>
              <a:t>S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ates (Estoy cansad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motions (Estoy trist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66"/>
                </a:solidFill>
                <a:latin typeface="Arial"/>
              </a:rPr>
              <a:t>L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ocation (Está en el su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66"/>
                </a:solidFill>
                <a:latin typeface="Arial"/>
              </a:rPr>
              <a:t>F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elings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¿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Cómo estás?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33640" y="5638680"/>
            <a:ext cx="67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you feel and where you are, that is when you use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 ESTA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!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010280" y="4495680"/>
            <a:ext cx="19051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68360" y="260280"/>
            <a:ext cx="39592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971640" y="836640"/>
            <a:ext cx="4392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y listo /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oy listo /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Es mor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Estás (un) pes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Estoy seguro /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Estoy cansado /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Está rico /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 Es v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 Estoy bien, gra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 Soy aburr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0T19:06:17Z</dcterms:created>
  <dc:creator>Mark N</dc:creator>
  <dc:description/>
  <dc:language>en-US</dc:language>
  <cp:lastModifiedBy>Owner1</cp:lastModifiedBy>
  <dcterms:modified xsi:type="dcterms:W3CDTF">2008-12-09T12:27:36Z</dcterms:modified>
  <cp:revision>12</cp:revision>
  <dc:subject/>
  <dc:title>martes, 21 de febrero</dc:title>
</cp:coreProperties>
</file>